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ADBF-0C8B-4AF5-9808-DB961EF00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166D-9568-43A7-9768-1C85A07FF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9ACC-2013-419E-BED7-5E1799DEC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6C8F-76AC-4834-B309-517EE5FC3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BB752-C202-4475-BEC9-72851C7C3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AE8E6-F9F7-4BA5-ABAA-EDCAEEDCC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3065C-3185-40EB-8B83-CB7A9E583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5128B-99C9-4F1B-8B87-AB8D7C445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B39C7-E86B-4D45-8225-B520F4799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3E0B6-3235-46CC-9854-49AEBAF62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6E8E7-1ABA-4C40-9D90-0318A3B9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61E1-80FB-4FF9-A201-6ADBFC74A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04ED0-5AB1-4ABD-9A17-8915B601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99DE7-082B-423E-9ED0-499AE7BB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8B933-0ABE-4356-816A-17B1A1523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5CB5C-770E-49C4-B7F2-7C33F0CA0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51E57-1D93-42C8-AB45-518ACDEB6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0E42-C9E2-4A19-9A5B-18F7FB7E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529D-264D-42C5-B1F7-4BCB2F40F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716E-612C-425E-B547-A51D664E2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D5BA-22AE-4E7D-928F-B26FA5115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4062-8E89-473C-AB27-1AFC4E93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E455-0B95-4249-A147-C71226F8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7754-29AD-45DA-ABDD-6E6F7490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75C1A-321A-44D9-8740-6BD17E5C80B3}" type="slidenum"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0F319-4C6C-47C4-8693-5E4511B743B1}" type="slidenum"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ff"/>
                </a:solidFill>
                <a:latin typeface="Comic Sans MS"/>
              </a:rPr>
              <a:t>The Cold War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BRRRRR . . . 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436480" y="3885840"/>
            <a:ext cx="4267080" cy="205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Just kidding, it had nothing to do with the temperature ;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WII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uring WWII the Soviet Union and the United States were on the SAME SIDE, the Allied power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121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o what happened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12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lthough the countries worked together during the war, after the war was over both countries had very different ideas of what should happen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121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12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Yalta Conference 1945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-32904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t the Yalta Conference in 1945 the Allied Powers tried to come up with a compromise as to what should be done with Europe and its changing border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-32904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US and the Soviet Union were two of the MOST influential voice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153280" cy="594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The United States wanted to help rebuild Germany.  They thought that it was important for Germany to become an industrialized nation.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The Soviet Union wanted to disarm Germany, so that they could NEVER become powerful again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What does that sound like?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ommunism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mmunism (which is a type of government / socialist system) was spreading throughout Europe at the same tim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US was afraid that Communism was going to make its way over to America ; this was NOT OK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mmunism went against EVERY basic American principl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e Start of the Cold Wa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83944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ell there really wasn’t a start of the cold war, it pretty much STARTED as WWII was ending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re also never really was a WAR, that’s why it was called the COLD war because no fighting really took plac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OWEVER the Korean War (NOT A COLD WAR a VERY HOT ONE) was fought because of the Cold War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e Cold War Continue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Cold War went on for quite a while, it was kind of like a stand off between Non - Communist US and the Communist Soviet Uni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th countries owned DEADLY nuclear weapon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e Cold War in Depth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o help us REALLY SEE what happened in the Cold War, we are going to look at our atlase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lease turn to page 116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18:07:43Z</dcterms:created>
  <dc:creator>Cecil County</dc:creator>
  <dc:description/>
  <dc:language>en-US</dc:language>
  <cp:lastModifiedBy>Cecil County</cp:lastModifiedBy>
  <dcterms:modified xsi:type="dcterms:W3CDTF">2008-12-02T19:31:21Z</dcterms:modified>
  <cp:revision>2</cp:revision>
  <dc:subject/>
  <dc:title>The Cold War   BRRRRR . . .  </dc:title>
</cp:coreProperties>
</file>